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E64-87A7-46E6-92FA-B1AFDE27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F296-A361-4AC3-A5FA-F442DA5D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431-3584-4CC9-BC22-11036FCD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40FA-E603-41C1-9C22-BDF295C5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3880-FD0B-415D-A79E-FC6E3675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072-CE01-44BD-B96A-3CD719BA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E79-B1DD-4496-923F-64DEA425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C58-F6A7-4496-8FEE-41AE03EA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A253-3E67-475F-B5A4-B89CFD57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EA4-80FF-4B86-B6A8-9A23629A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4D3-8D28-46FF-8350-45380BF8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FC4-867A-4941-BEC6-19694C8A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4DBF-A784-48F6-B76C-A014E5B0C3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Introduction to regression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 Math"/>
              </a:rPr>
              <a:t>Fitting a straight line – the 3-median method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Usually, we need a more accurate method than fitting a line by eye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One of these methods is called the 3-median method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3-median method procedure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tep 1. Plot the points on a scatterplot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tep 2. Divide the points into three groups using vertical division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If the number of points is divisible by 3, divide them into 3 equal groups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If there is 1 extra point, put the extra point in the middle group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If there are 2 extra points, put 1 extra point in each of the outer groups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Step 3. Find the median point of each of the 3 groups and mark each median on the scatterplot. The median point of each group has an x-coordinate, which is the median value of the x-values in the group and a y-coordinate, which is the median value of the y-values in the group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The left group is the lower group, median (x</a:t>
            </a:r>
            <a:r>
              <a:rPr b="0" lang="en-AU" sz="2600" spc="-1" strike="noStrike" baseline="-25000">
                <a:solidFill>
                  <a:srgbClr val="000000"/>
                </a:solidFill>
                <a:latin typeface="Cambria Math"/>
              </a:rPr>
              <a:t>L</a:t>
            </a: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,y</a:t>
            </a:r>
            <a:r>
              <a:rPr b="0" lang="en-AU" sz="2600" spc="-1" strike="noStrike" baseline="-25000">
                <a:solidFill>
                  <a:srgbClr val="000000"/>
                </a:solidFill>
                <a:latin typeface="Cambria Math"/>
              </a:rPr>
              <a:t>L</a:t>
            </a: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The median of the middle group is (x</a:t>
            </a:r>
            <a:r>
              <a:rPr b="0" lang="en-AU" sz="2600" spc="-1" strike="noStrike" baseline="-25000">
                <a:solidFill>
                  <a:srgbClr val="000000"/>
                </a:solidFill>
                <a:latin typeface="Cambria Math"/>
              </a:rPr>
              <a:t>M</a:t>
            </a: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,y</a:t>
            </a:r>
            <a:r>
              <a:rPr b="0" lang="en-AU" sz="2600" spc="-1" strike="noStrike" baseline="-25000">
                <a:solidFill>
                  <a:srgbClr val="000000"/>
                </a:solidFill>
                <a:latin typeface="Cambria Math"/>
              </a:rPr>
              <a:t>M</a:t>
            </a: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The median of the upper group is (x</a:t>
            </a:r>
            <a:r>
              <a:rPr b="0" lang="en-AU" sz="2600" spc="-1" strike="noStrike" baseline="-25000">
                <a:solidFill>
                  <a:srgbClr val="000000"/>
                </a:solidFill>
                <a:latin typeface="Cambria Math"/>
              </a:rPr>
              <a:t>U</a:t>
            </a: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,y</a:t>
            </a:r>
            <a:r>
              <a:rPr b="0" lang="en-AU" sz="2600" spc="-1" strike="noStrike" baseline="-25000">
                <a:solidFill>
                  <a:srgbClr val="000000"/>
                </a:solidFill>
                <a:latin typeface="Cambria Math"/>
              </a:rPr>
              <a:t>U</a:t>
            </a: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Remember that the x-values are already in the right order for calculating the median but that the y-values may need to be re-ordered before you can find the median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re are three alternative methods of completing Steps 4 and 5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A. Graphical Approach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tep 4. Draw in the line of best fit. Place your ruler so that it passes through the lower and upper medians. Move the ruler a third of the way toward the middle group median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Cambria Math"/>
              </a:rPr>
              <a:t>while maintaining the slope.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Hold the ruler there and draw the line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Find the equation of the line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B. Arithmetic Approach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tep 4. Calculate the gradient of the line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using the rule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tep 5. Calculate the y-intercept (c) using the rule: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55" name="Object 2"/>
          <p:cNvGraphicFramePr/>
          <p:nvPr/>
        </p:nvGraphicFramePr>
        <p:xfrm>
          <a:off x="3056040" y="2500200"/>
          <a:ext cx="210492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2500200"/>
                    <a:ext cx="210492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5"/>
          <p:cNvGraphicFramePr/>
          <p:nvPr/>
        </p:nvGraphicFramePr>
        <p:xfrm>
          <a:off x="2500200" y="4572000"/>
          <a:ext cx="6299280" cy="10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4572000"/>
                    <a:ext cx="629928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C. CAS Calculator Approach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Use emulator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 3B: 2, 4, 5, 7, 9, 10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1:37:42Z</dcterms:created>
  <dc:creator>08843474</dc:creator>
  <dc:description/>
  <dc:language>en-US</dc:language>
  <cp:lastModifiedBy>08843474</cp:lastModifiedBy>
  <dcterms:modified xsi:type="dcterms:W3CDTF">2011-03-03T12:12:50Z</dcterms:modified>
  <cp:revision>2</cp:revision>
  <dc:subject/>
  <dc:title>Introduction to regression</dc:title>
</cp:coreProperties>
</file>